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E83-5935-4F7E-9EC8-1C814D9E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ABE-4216-45AF-99AB-0B3B595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890-EB6E-405E-8622-601D7635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D51-33BE-44AE-B845-4D4D2FB8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8984-9407-4244-8AB4-0C46A5FE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F56-F759-49B2-87F5-D487BC28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513C-BC15-4456-965F-066445F7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D0DA-0144-4777-9AFA-4C412163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FB52-CBB0-46CA-8964-2BAE931B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1DAF-2825-4F77-9F80-1B919CB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5A25-3316-424A-9417-DA596E7C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B72-FB5C-449B-8515-56A0EF63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D4A7-BA32-4724-8579-12E5177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734-04E1-4125-A812-CC40A56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9387-8D2E-4151-B7D2-B3EAEB83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5610-82C2-40DD-9CEE-AABCE5CF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80BD-AA33-49B1-9E5C-7800D3E9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858D-0C0A-44D5-960F-A5D14EDB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7071-8DFF-4581-B8AB-506EB8B6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4973-7BEE-4235-B322-C5A9DF9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F2C9-00B8-40BA-A54A-2DD5EB4F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5D6F-3E50-4460-A72E-FFDED43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D8E-061C-40EB-BD99-4CB5A061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B066-F5D6-4883-9223-CE9D73B1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07BE-7438-43C3-8E55-19E20F9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F6C9-8A6E-4E8E-8033-AE7C51F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D00C-9A60-4997-973A-FF5F414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F3DE-3166-4C46-AD67-26846F3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73E2-66EC-467A-8FA1-46C74756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8EB6-7F3C-4BD3-8D52-6146FD36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1560-373F-449F-9CEC-8DFC9EC7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769C-3B4E-403E-917E-898B8477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99830-EAA9-4B8B-AD1E-25DCA38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7B7-BC48-463C-BB17-0BAC838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1C30-85BC-40B0-AB6D-620A79E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8AE4-97CB-43F0-BACC-A3F1CD65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62BE-3BA2-4EEF-8D8E-0A719DC4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1BA4C-ECE7-4B36-B9C3-CCBDC28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58C2-31C9-4878-9E98-7A95FEF2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4556-5D02-4772-8350-152532A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09CE-9142-44BF-8A66-CE4F9823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AAC9-22D3-4F25-B5C7-B3FF5BEF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B2CD-0697-4E79-B107-CAD7F1F2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BC45-BDB3-4481-85A4-B3629609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96D-F913-4BCA-8C27-EF4DC4C5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70A64-07ED-45F2-9048-B4ABF25E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E5C91-84F0-4596-BCBC-DEA7CEC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EAE6-84C4-4975-B41E-A8A9A412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72BEE-E614-4B7A-98D4-04013C74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1EF9-B1BA-4F6F-8B49-3847030C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4646-0776-42B2-A43F-0C16A01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3C5B-3040-40C9-9AF5-808D80A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0D2EB-997E-4BF5-BBD2-7372F83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0F550-F8DB-40F3-A5B0-CD182D84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721C9-B787-440B-AAD3-CC97BD81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AF9-CEFE-409A-AF9F-1EA0523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C99E9-2855-4009-A4A8-B2392158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1A3-DB33-4865-B647-84855EF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DD8-4150-4B77-9A72-0D668B7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835-65C3-4228-9CB4-50C687B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A9A5-4C69-4087-9A43-F4B0B3C26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7315200" y="6435720"/>
            <a:ext cx="1266840" cy="25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1229-EB13-4646-B43A-882E393D1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7191360" y="639144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E22-863C-4FFD-8EAE-BA9AB00C8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7191360" y="641340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7EA4-D180-46FB-AD86-E74EB495F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7086600" y="6397560"/>
            <a:ext cx="1495440" cy="295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Dr. Bijoy Kun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DB1-58D8-424D-8D7C-6D133F3C0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amazon.in/Introduction-Medicinal-Chemistry-Bijoy-Kundu-ebook/dp/B0882YMV3F/ref=sr_1_1?crid=2C6NO3KVCFRWH&amp;dchild=1&amp;keywords=medicinal+chemistry+bijoy+kundu&amp;qid=1592314923&amp;sprefix=medicinal+chemistry+bijoy%2Caps%2C305&amp;sr=8-1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914400" y="91440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INTRODUCTION TO        MEDICINAL 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76320" y="631980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r. Bijoy Kun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 rot="10800000">
            <a:off x="329760" y="2768400"/>
            <a:ext cx="762120" cy="251460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 rot="16200000">
            <a:off x="-394920" y="374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Wiley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3286440" y="342900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1828800" y="427176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Enzymes and digestion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3824280" y="3281400"/>
            <a:ext cx="1495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1"/>
          <p:cNvGraphicFramePr/>
          <p:nvPr/>
        </p:nvGraphicFramePr>
        <p:xfrm>
          <a:off x="457200" y="1600200"/>
          <a:ext cx="817092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709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3"/>
          <p:cNvSpPr/>
          <p:nvPr/>
        </p:nvSpPr>
        <p:spPr>
          <a:xfrm>
            <a:off x="457200" y="383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digestion of carbohydrates and absorption of membrane permeable component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533520" y="22525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www.amazon.in/Introduction-Medicinal-Chemistry-Bijoy-Kundu-ebook/dp/B0882YMV3F/ref=sr_1_1?crid=2C6NO3KVCFRWH&amp;dchild=1&amp;keywords=medicinal+chemistry+bijoy+kundu&amp;qid=1592314923&amp;sprefix=medicinal+chemistry+bijoy%2Caps%2C305&amp;sr=8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6094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k to buy th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04920" y="380880"/>
            <a:ext cx="8534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gestive enzymes secreted in stomach, from pancreas and from enterocytes (intestinal brush-border enzym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gestion of prote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ein degradation): Exopeptidases and endopeptid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ymogens (Proenzymes): Gut secretion pepsinogen and     pancreatic zym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gestion of 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mulsification and digestion, bile salts, pancreatic lipase, micelles and absorption of choles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igestion of 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990720" y="2057400"/>
          <a:ext cx="7543800" cy="3365640"/>
        </p:xfrm>
        <a:graphic>
          <a:graphicData uri="http://schemas.openxmlformats.org/drawingml/2006/table">
            <a:tbl>
              <a:tblPr/>
              <a:tblGrid>
                <a:gridCol w="2232000"/>
                <a:gridCol w="2981160"/>
                <a:gridCol w="2330640"/>
              </a:tblGrid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rge dietary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breakdow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luble 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hydrat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ut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mple sugar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tei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omach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ino acid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ipids (fats)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	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atty acids + glycer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"/>
          <p:cNvSpPr/>
          <p:nvPr/>
        </p:nvSpPr>
        <p:spPr>
          <a:xfrm>
            <a:off x="762120" y="64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down of macromolecular dietary components into membrane permeable fra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14400" y="1828800"/>
          <a:ext cx="7467480" cy="2944800"/>
        </p:xfrm>
        <a:graphic>
          <a:graphicData uri="http://schemas.openxmlformats.org/drawingml/2006/table">
            <a:tbl>
              <a:tblPr/>
              <a:tblGrid>
                <a:gridCol w="3319560"/>
                <a:gridCol w="414792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ve enzym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te of secre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hydrase (e.g. Amyl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ivary glands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ase (e.g. Pepsin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mach, 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pase (e.g. Gastric lipas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s and small intest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380880" y="4593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gestive enzymes used in the degradation of three major foo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1"/>
          <p:cNvGraphicFramePr/>
          <p:nvPr/>
        </p:nvGraphicFramePr>
        <p:xfrm>
          <a:off x="1752480" y="600120"/>
          <a:ext cx="5153040" cy="61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00120"/>
                    <a:ext cx="515304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3"/>
          <p:cNvSpPr/>
          <p:nvPr/>
        </p:nvSpPr>
        <p:spPr>
          <a:xfrm>
            <a:off x="785160" y="6156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protein digestion and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1"/>
          <p:cNvGraphicFramePr/>
          <p:nvPr/>
        </p:nvGraphicFramePr>
        <p:xfrm>
          <a:off x="1371600" y="1143000"/>
          <a:ext cx="63244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6324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2461680" y="3063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proteins in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1371600" y="1066680"/>
          <a:ext cx="693432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9343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3"/>
          <p:cNvSpPr/>
          <p:nvPr/>
        </p:nvSpPr>
        <p:spPr>
          <a:xfrm>
            <a:off x="2835360" y="3819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in homeost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"/>
          <p:cNvGraphicFramePr/>
          <p:nvPr/>
        </p:nvGraphicFramePr>
        <p:xfrm>
          <a:off x="1523880" y="609480"/>
          <a:ext cx="61722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09480"/>
                    <a:ext cx="6172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3"/>
          <p:cNvSpPr/>
          <p:nvPr/>
        </p:nvSpPr>
        <p:spPr>
          <a:xfrm>
            <a:off x="228600" y="22860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indow view to lipid digestion and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"/>
          <p:cNvGraphicFramePr/>
          <p:nvPr/>
        </p:nvGraphicFramePr>
        <p:xfrm>
          <a:off x="536400" y="3679920"/>
          <a:ext cx="8083800" cy="20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3679920"/>
                    <a:ext cx="80838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3"/>
          <p:cNvGraphicFramePr/>
          <p:nvPr/>
        </p:nvGraphicFramePr>
        <p:xfrm>
          <a:off x="380880" y="1600200"/>
          <a:ext cx="848844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4884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4"/>
          <p:cNvGraphicFramePr/>
          <p:nvPr/>
        </p:nvGraphicFramePr>
        <p:xfrm>
          <a:off x="4513320" y="2679840"/>
          <a:ext cx="1159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3320" y="267984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"/>
          <p:cNvGraphicFramePr/>
          <p:nvPr/>
        </p:nvGraphicFramePr>
        <p:xfrm>
          <a:off x="4495680" y="609480"/>
          <a:ext cx="1159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609480"/>
                    <a:ext cx="1159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1T11:44:00Z</dcterms:created>
  <dc:creator>Dr. Kundu</dc:creator>
  <dc:description/>
  <dc:language>en-US</dc:language>
  <cp:lastModifiedBy>Uppal, Swati</cp:lastModifiedBy>
  <dcterms:modified xsi:type="dcterms:W3CDTF">2020-06-16T13:50:25Z</dcterms:modified>
  <cp:revision>37</cp:revision>
  <dc:subject/>
  <dc:title>Slide 1</dc:title>
</cp:coreProperties>
</file>