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BF9-89CA-4C2D-8941-4C492EE7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89D-4D98-4622-B796-8B08784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54D-D1C7-42BF-998A-48DAD366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3CF-EDB4-4C6A-87BA-56586E19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B273-134C-48B3-B433-57005D2A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82F9-6F6F-45B5-9F87-AE3656F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1E3-C453-4724-8D97-C6D3A38E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CFA7-454C-4BCD-80ED-7A3857B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631A-25B4-4DB7-BD8C-5A357C65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8FE1-0784-40E0-ACDC-202AE5A4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3B26-D29E-4A95-9446-4FB9E03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CF6-78DC-4953-9B92-1AF49582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88A9-EBC5-42CD-B61A-F3FB737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4763-0353-44A3-AA6A-407CCB8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80C3-2079-43E1-828D-9E9BD366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CA4A-2AFC-400E-B0EA-E37A3A88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9F7-B94C-47EC-9795-EAD95524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74B-45FB-4E3D-B7BF-B6A5747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3D8-B9C1-4979-B336-41ED0DB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E90-0EBA-4F2A-A857-DC53F2E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A07-C817-4308-A347-96A4002E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D8B-8DDF-47A1-AE2A-277D0F1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447-9D8F-4B29-AC40-2EC83EEE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4B9-FB8E-466C-90C6-5678416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AF15-F956-4130-A8F0-4C448EE0C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7172280" y="639144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C18C-423F-4B61-80B3-754116BCE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amazon.in/Introduction-Medicinal-Chemistry-Bijoy-Kundu-ebook/dp/B0882YMV3F/ref=sr_1_1?crid=2C6NO3KVCFRWH&amp;dchild=1&amp;keywords=medicinal+chemistry+bijoy+kundu&amp;qid=1592314923&amp;sprefix=medicinal+chemistry+bijoy%2Caps%2C305&amp;sr=8-1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914400" y="91440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INTRODUCTION TO        MEDICINAL 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84200" y="609588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r. Bijoy Kun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10800000">
            <a:off x="329760" y="2768400"/>
            <a:ext cx="762120" cy="25146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 rot="16200000">
            <a:off x="-394920" y="374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Wiley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286440" y="342900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828800" y="427176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Enzymes and digestion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156440" y="6180120"/>
            <a:ext cx="1495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"/>
          <p:cNvGraphicFramePr/>
          <p:nvPr/>
        </p:nvGraphicFramePr>
        <p:xfrm>
          <a:off x="457200" y="1600200"/>
          <a:ext cx="817092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709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3"/>
          <p:cNvSpPr/>
          <p:nvPr/>
        </p:nvSpPr>
        <p:spPr>
          <a:xfrm>
            <a:off x="457200" y="383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digestion of carbohydrates and absorption of membrane permeable component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42960" y="2546280"/>
            <a:ext cx="60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www.amazon.in/Introduction-Medicinal-Chemistry-Bijoy-Kundu-ebook/dp/B0882YMV3F/ref=sr_1_1?crid=2C6NO3KVCFRWH&amp;dchild=1&amp;keywords=medicinal+chemistry+bijoy+kundu&amp;qid=1592314923&amp;sprefix=medicinal+chemistry+bijoy%2Caps%2C305&amp;sr=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600200" y="154296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 to buy the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04920" y="380880"/>
            <a:ext cx="853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gestive enzymes secreted in stomach, from pancreas and from enterocytes (intestinal brush-border enzym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gestion of prote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ein degradation): Exopeptidases and endopeptid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ymogens (Proenzymes): Gut secretion pepsinogen and     pancreatic zym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gestion of 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mulsification and digestion, bile salts, pancreatic lipase, micelles and absorption of choles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igestion of 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90720" y="2057400"/>
          <a:ext cx="7543800" cy="3365640"/>
        </p:xfrm>
        <a:graphic>
          <a:graphicData uri="http://schemas.openxmlformats.org/drawingml/2006/table">
            <a:tbl>
              <a:tblPr/>
              <a:tblGrid>
                <a:gridCol w="2232000"/>
                <a:gridCol w="2981160"/>
                <a:gridCol w="2330640"/>
              </a:tblGrid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rge dietary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breakdow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luble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hydrat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ut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mple sug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tei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omac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ino acid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ipids (fats)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	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tty acids + glycer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"/>
          <p:cNvSpPr/>
          <p:nvPr/>
        </p:nvSpPr>
        <p:spPr>
          <a:xfrm>
            <a:off x="762120" y="64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down of macromolecular dietary components into membrane permeable fra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14400" y="1828800"/>
          <a:ext cx="7467480" cy="2944800"/>
        </p:xfrm>
        <a:graphic>
          <a:graphicData uri="http://schemas.openxmlformats.org/drawingml/2006/table">
            <a:tbl>
              <a:tblPr/>
              <a:tblGrid>
                <a:gridCol w="3319560"/>
                <a:gridCol w="414792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ve enzym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secre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hydrase (e.g. Amyl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ivary glands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ase (e.g. Pepsin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mach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pase (e.g. Gastric lip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"/>
          <p:cNvSpPr/>
          <p:nvPr/>
        </p:nvSpPr>
        <p:spPr>
          <a:xfrm>
            <a:off x="380880" y="4593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gestive enzymes used in the degradation of three major foo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"/>
          <p:cNvGraphicFramePr/>
          <p:nvPr/>
        </p:nvGraphicFramePr>
        <p:xfrm>
          <a:off x="1752480" y="600120"/>
          <a:ext cx="5153040" cy="61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00120"/>
                    <a:ext cx="515304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3"/>
          <p:cNvSpPr/>
          <p:nvPr/>
        </p:nvSpPr>
        <p:spPr>
          <a:xfrm>
            <a:off x="785160" y="615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protein digestion and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1371600" y="1143000"/>
          <a:ext cx="63244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324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3"/>
          <p:cNvSpPr/>
          <p:nvPr/>
        </p:nvSpPr>
        <p:spPr>
          <a:xfrm>
            <a:off x="2461680" y="3063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proteins in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"/>
          <p:cNvGraphicFramePr/>
          <p:nvPr/>
        </p:nvGraphicFramePr>
        <p:xfrm>
          <a:off x="1371600" y="1066680"/>
          <a:ext cx="693432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9343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"/>
          <p:cNvSpPr/>
          <p:nvPr/>
        </p:nvSpPr>
        <p:spPr>
          <a:xfrm>
            <a:off x="2835360" y="3819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in homeost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523880" y="609480"/>
          <a:ext cx="61722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09480"/>
                    <a:ext cx="6172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3"/>
          <p:cNvSpPr/>
          <p:nvPr/>
        </p:nvSpPr>
        <p:spPr>
          <a:xfrm>
            <a:off x="228600" y="22860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lipid digestion and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536400" y="3679920"/>
          <a:ext cx="8083800" cy="20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679920"/>
                    <a:ext cx="80838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380880" y="1600200"/>
          <a:ext cx="848844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4884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4513320" y="2679840"/>
          <a:ext cx="1159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3320" y="267984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5"/>
          <p:cNvGraphicFramePr/>
          <p:nvPr/>
        </p:nvGraphicFramePr>
        <p:xfrm>
          <a:off x="4495680" y="609480"/>
          <a:ext cx="1159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60948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1T11:44:00Z</dcterms:created>
  <dc:creator>Dr. Kundu</dc:creator>
  <dc:description/>
  <dc:language>en-US</dc:language>
  <cp:lastModifiedBy>Uppal, Swati</cp:lastModifiedBy>
  <dcterms:modified xsi:type="dcterms:W3CDTF">2020-06-16T14:03:39Z</dcterms:modified>
  <cp:revision>37</cp:revision>
  <dc:subject/>
  <dc:title>Slide 1</dc:title>
</cp:coreProperties>
</file>